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662-A38A-4054-95C4-6E85E404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733-7C2C-4AFB-9C15-1D4936A6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B01A-FBD9-457D-A4F8-490E8C32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152D-A310-45ED-A79F-C5D8E79A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203-62B6-41FA-B501-FBA895F3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4845-1C0E-4B5D-8AFF-3B9DC891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8EB-34C2-4A89-84ED-35B755DE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78FE-EF84-4183-A3BD-5747081D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13C-4D74-409D-B357-7B276068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FFB2-084E-46A7-8758-305B052B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DB1-7CEA-4580-B8EF-42405DC0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2AF2-AAF3-4BFF-8586-4631B279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5174-3319-4C37-9030-042EB568F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O9CKkbLUiI" TargetMode="External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e Guide 1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cience and Studying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371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science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17524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cience begins a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uriosity and tries to end with discov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21337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of knowledg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nd the methods used to find that knowled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2666880"/>
            <a:ext cx="7467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tists use models to help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bring things into perspective and to make it easier to underst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5053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cientists use a systematic method (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scientific metho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ry and discover the answers to their curios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419112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teps includ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observations, forming hypothesis, testing the hypothesis, analyzing and drawing conclu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495288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in mind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one test does not make a theory AND parts, predictions and ideas of the experiment can be revi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cientists also communicat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in the same language (S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371600"/>
            <a:ext cx="66294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system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of measurement similar to metr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We use things like inches and they use things like centimeters….BUT WE ALL IN SCIENCE USE THE SAME (centimeters, for exam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3048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429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get origin from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greek scientist Democritis, who says they are indivisi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373392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to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= Early Scient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matter is made up of individual particles called atoms (too small to study to obser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43434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se atoms hav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no electrical charge </a:t>
            </a: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neu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472428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, Thomson through experiments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ovides first evidence that atoms are made of smaller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omson’s experiment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ee pg. 103) showed the presence of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negatively charged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676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,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utherfor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=  gold foil experiment (see pg 1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21337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ims a narrow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beam of alpha particles at a thin piece of gold foil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2514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using a scree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round the gold, rutherford was hoping to be able to follow the path an alpha particle takes after it passes through the go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200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articles did not behave like he thought:  some went straight through, some bounced off at weird angles, while some came straight b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396252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 rutherford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suggests the nucleus, where positive charges hang 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9144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219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made of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3 main part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43000" y="1981080"/>
          <a:ext cx="6933960" cy="2278080"/>
        </p:xfrm>
        <a:graphic>
          <a:graphicData uri="http://schemas.openxmlformats.org/drawingml/2006/table">
            <a:tbl>
              <a:tblPr/>
              <a:tblGrid>
                <a:gridCol w="1733400"/>
                <a:gridCol w="1733760"/>
                <a:gridCol w="1733400"/>
                <a:gridCol w="1733400"/>
              </a:tblGrid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Elect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400" spc="-1" strike="noStrike" baseline="30000">
                          <a:solidFill>
                            <a:srgbClr val="cc33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bout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Proton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400" spc="-1" strike="noStrike" baseline="30000">
                          <a:solidFill>
                            <a:srgbClr val="cc33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Neutron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400" spc="-1" strike="noStrike" baseline="30000">
                          <a:solidFill>
                            <a:srgbClr val="cc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143000" y="441972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*mass of a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tom mostly in the nucl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 Guide 1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tructure of an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number = # of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in an element.  Atoms of any given element has same # of p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1371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Hydrogen (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 proton = Atomic number i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number = tells how many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and n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there are in an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2819520"/>
            <a:ext cx="7467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Al = Alumin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mass number is (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3886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rotons  +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neutr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ass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343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topes – atoms of the sam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lement that have different #’s of neutrons, thus different mass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sotopes do hav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e same atomic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990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?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# of protons stay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371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ss # different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because # of neutrons diffe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2133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Oxygen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O) – 8 protons (never change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25909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me oxygens hav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9 neutrons, giving a mass # of 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335268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aming isotopes =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using the element name and mass number  (Oxygen –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43434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an element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as a number after it, we are talking about an isot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3:52:02Z</dcterms:created>
  <dc:creator>Farwell Area Schools</dc:creator>
  <dc:description/>
  <dc:language>en-US</dc:language>
  <cp:lastModifiedBy>User</cp:lastModifiedBy>
  <dcterms:modified xsi:type="dcterms:W3CDTF">2010-08-08T23:34:44Z</dcterms:modified>
  <cp:revision>27</cp:revision>
  <dc:subject/>
  <dc:title>Note Guide 1-1 Studying Atoms</dc:title>
</cp:coreProperties>
</file>